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DA83-B7B5-448F-BDD3-6B8F6BBEC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5D24-C4B4-458E-98E5-B341F5ED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BCAB-6623-40AD-90E9-030E303E0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EEDB-55CD-4651-81A9-C84FF2B82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E856-DAAF-47DF-A42E-0B421587A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94C7-1F0C-46FE-BE10-9914F795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DA68-38E8-42DD-8873-E38FDFDD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934F-98EB-4123-9C5A-2B62B1A1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0604-507A-4690-9A7E-64784E25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E296-D3B5-474B-AAD0-E3BB8596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9C17-81CD-4FBC-B6A6-D9980E4C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5479-29E4-4144-9092-DF2AA32F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3BE6-F65F-4896-9608-77D4B09B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6288-77F8-4A28-874A-ED846FAB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1F82-7EAB-4BF7-9D57-D4D2934F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9083-FB94-43F6-A234-0DAA1260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7A02-FC18-4324-A5D6-A3A20A9C0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F423-A7B0-4F23-9E72-6078C590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0FC8-1C2E-4F9A-8596-FE2BF75A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BCA3-FC91-4BEA-86AC-E960834F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CB2E-6673-4AA9-9855-FCE8D26A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E560-5D84-4D50-9CB2-807B1FEC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78D9-6138-4C69-8DFC-6C96E3B0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7648-AAA2-4D31-A831-41C8883D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Rectangle 3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6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Group 12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Freeform 13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Freeform 15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Freeform 16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19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20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Freeform 26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" name="Freeform 31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5DE7-FBDB-4D01-A3EC-DB8BCF50ED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Rectangle 3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90" name="Rectangle 4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91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93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96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11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Group 12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Freeform 13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Freeform 14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Freeform 15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Freeform 16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Line 17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Freeform 18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Freeform 19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Freeform 20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Freeform 21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Freeform 22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Freeform 23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Freeform 24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Freeform 25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Freeform 26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Freeform 27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Freeform 28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Freeform 29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Freeform 30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Freeform 31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8" name="Freeform 32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9" name="Freeform 33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0" name="Freeform 34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1" name="Line 35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2" name="Freeform 36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3" name="Freeform 37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4" name="Freeform 38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5" name="Freeform 39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6" name="Freeform 40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7" name="Freeform 41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8" name="Freeform 42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9" name="Freeform 43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0" name="Freeform 44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1" name="Freeform 45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2" name="Freeform 46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3" name="Freeform 47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4" name="Freeform 48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C515-F049-48A7-8059-61114FB5F69A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7200" spc="-1" strike="noStrike">
                <a:solidFill>
                  <a:srgbClr val="ffcc00"/>
                </a:solidFill>
                <a:latin typeface="Desdemona"/>
              </a:rPr>
              <a:t>Greek Drama</a:t>
            </a:r>
            <a:r>
              <a:rPr b="0" lang="en-US" sz="4400" spc="-1" strike="noStrike">
                <a:solidFill>
                  <a:srgbClr val="ffcc00"/>
                </a:solidFill>
                <a:latin typeface="Desdemona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ombined Class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Ms Bach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Desdemona"/>
              </a:rPr>
              <a:t>Aeschylus</a:t>
            </a:r>
            <a:r>
              <a:rPr b="0" lang="en-US" sz="4400" spc="-1" strike="noStrike">
                <a:solidFill>
                  <a:srgbClr val="ffcc00"/>
                </a:solidFill>
                <a:latin typeface="Desdemona"/>
              </a:rPr>
              <a:t>  525 - 456 B.C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98" name="Object 2"/>
          <p:cNvGraphicFramePr/>
          <p:nvPr/>
        </p:nvGraphicFramePr>
        <p:xfrm>
          <a:off x="1600200" y="2057400"/>
          <a:ext cx="216864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057400"/>
                    <a:ext cx="216864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419720" y="20574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Wrote 90 play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13 first prize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7 plays survive in ful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Father of Tragedy”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Contributions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Added costume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Added second actor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Reduced chorus to 12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1218600" y="4572000"/>
            <a:ext cx="302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Famous plays include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8f8f8"/>
                </a:solidFill>
                <a:uFillTx/>
                <a:latin typeface="Times New Roman"/>
              </a:rPr>
              <a:t>Seven Against Theb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8f8f8"/>
                </a:solidFill>
                <a:uFillTx/>
                <a:latin typeface="Times New Roman"/>
              </a:rPr>
              <a:t>Prometheus Bound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8f8f8"/>
                </a:solidFill>
                <a:uFillTx/>
                <a:latin typeface="Times New Roman"/>
              </a:rPr>
              <a:t>Oresti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8f8f8"/>
                </a:solidFill>
                <a:uFillTx/>
                <a:latin typeface="Times New Roman"/>
              </a:rPr>
              <a:t>Agammemn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0" dur="1" fill="hold"/>
                                  <p:tgtEl>
                                    <p:spTgt spid="2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  <p:animClr clrSpc="rgb">
                                <p:cBhvr>
                                  <p:cTn id="551" dur="1" fill="hold"/>
                                  <p:tgtEl>
                                    <p:spTgt spid="20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  <p:animClr clrSpc="rgb">
                                <p:cBhvr>
                                  <p:cTn id="552" dur="1" fill="hold"/>
                                  <p:tgtEl>
                                    <p:spTgt spid="20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  <p:animClr clrSpc="rgb">
                                <p:cBhvr>
                                  <p:cTn id="553" dur="1" fill="hold"/>
                                  <p:tgtEl>
                                    <p:spTgt spid="20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Desdemona"/>
              </a:rPr>
              <a:t>Sophocles:</a:t>
            </a:r>
            <a:r>
              <a:rPr b="0" lang="en-US" sz="4400" spc="-1" strike="noStrike">
                <a:solidFill>
                  <a:srgbClr val="ffcc00"/>
                </a:solidFill>
                <a:latin typeface="Desdemona"/>
              </a:rPr>
              <a:t>  496 - 456 B.C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03" name="Object 2"/>
          <p:cNvGraphicFramePr/>
          <p:nvPr/>
        </p:nvGraphicFramePr>
        <p:xfrm>
          <a:off x="1143000" y="1981080"/>
          <a:ext cx="239724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81080"/>
                    <a:ext cx="239724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657600" y="1600200"/>
            <a:ext cx="54864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Born at Colonus; general &amp; priest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Wrote 23 plays; 20 first prize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Seven plays surviv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Contributions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Added third actor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Increased chorus to 15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Introduced scene painting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Abandoned the trilogy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837720" y="4572000"/>
            <a:ext cx="304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Famous plays include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8f8f8"/>
                </a:solidFill>
                <a:uFillTx/>
                <a:latin typeface="Times New Roman"/>
              </a:rPr>
              <a:t>Antigon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8f8f8"/>
                </a:solidFill>
                <a:uFillTx/>
                <a:latin typeface="Times New Roman"/>
              </a:rPr>
              <a:t>Oedipus Rex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8f8f8"/>
                </a:solidFill>
                <a:uFillTx/>
                <a:latin typeface="Times New Roman"/>
              </a:rPr>
              <a:t>Electr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2971800" y="5851440"/>
            <a:ext cx="563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f8f8f8"/>
                </a:solidFill>
                <a:latin typeface="Times New Roman"/>
              </a:rPr>
              <a:t>Aeschylus composed correctly without knowing it; Euripedes portrayed men as they are; I portray men as they ought to be.”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1" dur="1" fill="hold"/>
                                  <p:tgtEl>
                                    <p:spTgt spid="2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  <p:animClr clrSpc="rgb">
                                <p:cBhvr>
                                  <p:cTn id="602" dur="1" fill="hold"/>
                                  <p:tgtEl>
                                    <p:spTgt spid="20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  <p:animClr clrSpc="rgb">
                                <p:cBhvr>
                                  <p:cTn id="603" dur="1" fill="hold"/>
                                  <p:tgtEl>
                                    <p:spTgt spid="20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  <p:animClr clrSpc="rgb">
                                <p:cBhvr>
                                  <p:cTn id="604" dur="1" fill="hold"/>
                                  <p:tgtEl>
                                    <p:spTgt spid="20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  <p:animClr clrSpc="rgb">
                                <p:cBhvr>
                                  <p:cTn id="605" dur="1" fill="hold"/>
                                  <p:tgtEl>
                                    <p:spTgt spid="20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Desdemona"/>
              </a:rPr>
              <a:t>Euripedes: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480 - 406 B.C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09" name="Object 2"/>
          <p:cNvGraphicFramePr/>
          <p:nvPr/>
        </p:nvGraphicFramePr>
        <p:xfrm>
          <a:off x="1676520" y="2133720"/>
          <a:ext cx="2320920" cy="21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133720"/>
                    <a:ext cx="232092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4796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Wrote 92 plays, 4 first prize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Provocative!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Rational (more interested in men than in gods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Realist (social concerns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1447560" y="4876920"/>
            <a:ext cx="304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Famous plays include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8f8f8"/>
                </a:solidFill>
                <a:uFillTx/>
                <a:latin typeface="Times New Roman"/>
              </a:rPr>
              <a:t>The Trojan Wome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8f8f8"/>
                </a:solidFill>
                <a:uFillTx/>
                <a:latin typeface="Times New Roman"/>
              </a:rPr>
              <a:t>Iphegenia at Auli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8f8f8"/>
                </a:solidFill>
                <a:uFillTx/>
                <a:latin typeface="Times New Roman"/>
              </a:rPr>
              <a:t>Mede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7" dur="1" fill="hold"/>
                                  <p:tgtEl>
                                    <p:spTgt spid="21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or additional information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Desdemona"/>
              </a:rPr>
              <a:t>Background Inform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8f8f8"/>
              </a:buClr>
              <a:buFont typeface="Desdemo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Desdemona"/>
              </a:rPr>
              <a:t>Dionysus,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Greek god of death &amp; rebirth, drama.  Ceremonial spring worship with large chorus of 50 celebrant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8f8f8"/>
              </a:buClr>
              <a:buFont typeface="Desdemo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Desdemona"/>
              </a:rPr>
              <a:t>Thespis,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the first actor to speak apart from the chorus (thespian)   Hero now possible!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8f8f8"/>
              </a:buClr>
              <a:buFont typeface="Desdemo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Desdemona"/>
              </a:rPr>
              <a:t>Aeschylus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, the second actor - the antagonist arrives!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8f8f8"/>
              </a:buClr>
              <a:buFont typeface="Desdemo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Desdemona"/>
              </a:rPr>
              <a:t>Sophocles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adds a third actor.  Three actors play all roles, with only change of costume and mask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" dur="1" fill="hold"/>
                                  <p:tgtEl>
                                    <p:spTgt spid="17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Desdemona"/>
              </a:rPr>
              <a:t>Drama  festiva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estivals of state religion lasting 5-6 day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ree poets chosen to compet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Each presents three plays and one “satyr”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rst contest (534 B.C.) won by Thespi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4" dur="1" fill="hold"/>
                                  <p:tgtEl>
                                    <p:spTgt spid="18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Desdemona"/>
              </a:rPr>
              <a:t>The Amphitheate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Hollowed-out hillsid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Amazing acoustic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Seats of hono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Capacity up to 17,0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Orchestra: choral dancing plac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Altar for sacrifices prior to performanc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Skene:  dressing room for the actor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Proscenium:  façade of the skene, carried scenery, three doors, theologion (platform for the gods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Parados:  entry and exit of the chor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2205000" y="6491160"/>
            <a:ext cx="606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8f8f8"/>
                </a:solidFill>
                <a:latin typeface="Times New Roman"/>
              </a:rPr>
              <a:t>Photo from http://www.one-world.net/hellas/pelopon/epidav.jpg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6" name="Picture 5" descr=""/>
          <p:cNvPicPr/>
          <p:nvPr/>
        </p:nvPicPr>
        <p:blipFill>
          <a:blip r:embed="rId1"/>
          <a:stretch/>
        </p:blipFill>
        <p:spPr>
          <a:xfrm>
            <a:off x="4648320" y="1447920"/>
            <a:ext cx="380988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5" dur="1" fill="hold"/>
                                  <p:tgtEl>
                                    <p:spTgt spid="18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Desdemona"/>
              </a:rPr>
              <a:t>Conventions of Greek Dram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Outdoor scene, taking place away from the action at the heart of  the pla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Ubiquitous messenger reveals the action (often the leader of the chorus)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Use of “machine”  (deus ex machina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Conventionalized actin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No violence portrayed on stag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hree unities:  time, place, ac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No curtains, no intermiss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Stichomythi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Masks:  megaphones, stylized, larger than life for god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6" dur="1" fill="hold"/>
                                  <p:tgtEl>
                                    <p:spTgt spid="18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Desdemona"/>
              </a:rPr>
              <a:t>Elements of Greek Traged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Greek tragedy is always in verse; speech of actors is iambic trimete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Greek tragedy is based upon heroic legends, involving gods and fat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Arisotle’s definition of tragedy notes that tragedy must arouse both pity and fea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ragedy consists of “disaster, defeat, and destiny”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2" dur="1" fill="hold"/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Desdemona"/>
              </a:rPr>
              <a:t>The Structure of Traged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8f8f8"/>
                </a:solidFill>
                <a:uFillTx/>
                <a:latin typeface="Times New Roman"/>
              </a:rPr>
              <a:t>Prologue: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  the action before the entrance of the choru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8f8f8"/>
                </a:solidFill>
                <a:uFillTx/>
                <a:latin typeface="Times New Roman"/>
              </a:rPr>
              <a:t>Parados: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  the entering dance of the choru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8f8f8"/>
                </a:solidFill>
                <a:uFillTx/>
                <a:latin typeface="Times New Roman"/>
              </a:rPr>
              <a:t>Episodes: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  the action between choral ode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8f8f8"/>
                </a:solidFill>
                <a:uFillTx/>
                <a:latin typeface="Times New Roman"/>
              </a:rPr>
              <a:t>Stasima: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  the choral ode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8f8f8"/>
                </a:solidFill>
                <a:uFillTx/>
                <a:latin typeface="Times New Roman"/>
              </a:rPr>
              <a:t>Exodos: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  the action after the last choral od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7" dur="1" fill="hold"/>
                                  <p:tgtEl>
                                    <p:spTgt spid="1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Desdemona"/>
              </a:rPr>
              <a:t>The Tragic Her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Is neither completely good nor completely bad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Is of  high statur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Suffers a change in fortune due to a tragic flaw (most often </a:t>
            </a:r>
            <a:r>
              <a:rPr b="0" lang="en-US" sz="2800" spc="-1" strike="noStrike">
                <a:solidFill>
                  <a:srgbClr val="f8f8f8"/>
                </a:solidFill>
                <a:latin typeface="Desdemona"/>
              </a:rPr>
              <a:t>HUBRIS,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but could be a virtue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Has a “moment of truth”, insight to the tragic flaw (or else it is pathos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3" dur="1" fill="hold"/>
                                  <p:tgtEl>
                                    <p:spTgt spid="19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Desdemona"/>
              </a:rPr>
              <a:t>Functions of the Choru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Beauty and poetry of dancing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Interprets events, gives interpretation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Relieves tension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Advises actor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horal movement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646200" indent="-24840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trophe (first movement)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646200" indent="-24840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Antistrophe (counter-movement)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646200" indent="-24840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Epode (afterpiece)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6" dur="1" fill="hold"/>
                                  <p:tgtEl>
                                    <p:spTgt spid="19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  <p:animClr clrSpc="rgb">
                                <p:cBhvr>
                                  <p:cTn id="497" dur="1" fill="hold"/>
                                  <p:tgtEl>
                                    <p:spTgt spid="19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  <p:animClr clrSpc="rgb">
                                <p:cBhvr>
                                  <p:cTn id="498" dur="1" fill="hold"/>
                                  <p:tgtEl>
                                    <p:spTgt spid="19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  <p:animClr clrSpc="rgb">
                                <p:cBhvr>
                                  <p:cTn id="499" dur="1" fill="hold"/>
                                  <p:tgtEl>
                                    <p:spTgt spid="19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4-03-08T01:37:30Z</dcterms:created>
  <dc:creator>Literacy Challenge Grant</dc:creator>
  <dc:description/>
  <dc:language>en-US</dc:language>
  <cp:lastModifiedBy>Skip Nicholson</cp:lastModifiedBy>
  <dcterms:modified xsi:type="dcterms:W3CDTF">2012-03-30T01:44:08Z</dcterms:modified>
  <cp:revision>18</cp:revision>
  <dc:subject/>
  <dc:title> Greek Drama </dc:title>
</cp:coreProperties>
</file>